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17E-0DA5-401C-8E18-8F90B020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4B8-6D6C-4C3F-AD78-58C75FFE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A31-1BCD-463F-84CB-145A823A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1C8-115D-4501-90E3-D3B081E9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1931-A872-44A7-B237-3E1E6563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84F4-C8B5-46EA-AE79-0AC1044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6D0C-ACF4-4C79-B2EF-AF688E3A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5F36-729A-4C74-A07E-68F92C0B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5C7-FE6D-4D59-8E5E-41804060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E12A-0578-47F5-B1D8-BC10C1CC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B397-F826-4F2A-9942-F26EAFAE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C91-0EF9-4450-8846-3198F519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BDFA-CD4E-4363-8188-4F056CA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75E3-C61F-432C-9CE7-87E6535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9EC-6EFF-4DC7-9199-5DCA309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CC22-509B-4D0F-A081-4CF1D9C4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C0D5-6421-4FBC-9E95-AE212287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F76-68B7-4F99-A32F-C3A37F4E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CF8-E3B0-473C-B620-50A8DF6F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D6F-8DA9-4E44-8BF0-FC49E1FA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447-94E4-4630-A7CC-BAC5C54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0FF-9F8D-45B6-A903-2682815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8FF-4F86-4914-9411-4B2F3832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951-2705-41D0-9A4A-525C2A2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B7AC-2522-49EB-A436-86F0DD1C4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4419-6AB5-4907-A362-9F2E3ED4C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Органы чувств и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нервная систе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782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 уроку окружающего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3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зрения-гл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слуха- уш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05120"/>
            <a:ext cx="558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боняния-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85436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вкуса- яз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сязания-кож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582560"/>
            <a:ext cx="511668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549000"/>
            <a:ext cx="44863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рвная систем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nervous_system4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Scan0001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14:14Z</dcterms:created>
  <dc:creator>Admin</dc:creator>
  <dc:description/>
  <dc:language>en-US</dc:language>
  <cp:lastModifiedBy>Admin</cp:lastModifiedBy>
  <dcterms:modified xsi:type="dcterms:W3CDTF">2011-03-09T11:49:25Z</dcterms:modified>
  <cp:revision>4</cp:revision>
  <dc:subject/>
  <dc:title>Органы чувств</dc:title>
</cp:coreProperties>
</file>